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ct" ContentType="image/x-pict"/>
  <Override PartName="/ppt/media/image10.pct" ContentType="image/x-pict"/>
  <Override PartName="/ppt/media/image9.pct" ContentType="image/x-pict"/>
  <Override PartName="/ppt/media/image1.pct" ContentType="image/x-pict"/>
  <Override PartName="/ppt/media/image4.png" ContentType="image/png"/>
  <Override PartName="/ppt/media/image15.pct" ContentType="image/x-pict"/>
  <Override PartName="/ppt/media/image2.pct" ContentType="image/x-pict"/>
  <Override PartName="/ppt/media/image5.png" ContentType="image/png"/>
  <Override PartName="/ppt/media/image16.pct" ContentType="image/x-pict"/>
  <Override PartName="/ppt/media/image14.pct" ContentType="image/x-pict"/>
  <Override PartName="/ppt/media/image3.png" ContentType="image/png"/>
  <Override PartName="/ppt/media/image6.pct" ContentType="image/x-pict"/>
  <Override PartName="/ppt/media/image11.pct" ContentType="image/x-pict"/>
  <Override PartName="/ppt/media/image7.jpeg" ContentType="image/jpeg"/>
  <Override PartName="/ppt/media/image8.pct" ContentType="image/x-pict"/>
  <Override PartName="/ppt/media/image13.pct" ContentType="image/x-pi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56FF6-1BAD-46C3-A587-293AAED8E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1CE56-BAC1-4508-9C32-3C1EF1652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C6AAB-1391-4BF6-8482-EA6B6FD1B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461FE-9A64-4B20-BE2C-4188D767A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AF209-3DA0-4167-84C8-E8BC0B4C4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3726E-70A5-415D-87B5-591B536FB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0B790-526E-44EF-B341-6345C67B1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5D493-15F2-41F2-AC8F-36D57AF00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334D9-D78A-4D7D-8577-79532E262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48B38-D01F-47AA-BE99-9CE543476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8764E-A2A2-4235-BCF0-2ADAB06CA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2917D-E7AA-433B-83FE-E10866424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Gill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Gill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Gill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38BAD-8F08-43F1-B049-EFA2A618C3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ct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ct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ct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obofoundry.org/ro" TargetMode="External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obo.sourceforge.net/" TargetMode="External"/><Relationship Id="rId2" Type="http://schemas.openxmlformats.org/officeDocument/2006/relationships/hyperlink" Target="http://www.obofoundry.org/" TargetMode="External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pct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yuri.lbl.gov:9000/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flybase.org/" TargetMode="External"/><Relationship Id="rId2" Type="http://schemas.openxmlformats.org/officeDocument/2006/relationships/hyperlink" Target="http://www.wormbase.org/" TargetMode="External"/><Relationship Id="rId3" Type="http://schemas.openxmlformats.org/officeDocument/2006/relationships/hyperlink" Target="http://www.yeastgenome.org/" TargetMode="Externa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Ontology-oriented databases: Chado and OBD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Gill Sans"/>
              </a:rPr>
              <a:t>Chris Mungal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Lawrence Berkeley Lab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Origins of Chado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hado was originally developed for FlyBas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Integration of GadFly (Berkeley) and previous FlyBase databas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hado later adopted by GMOD and other some individual MOD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opular amongst ‘newer’ MODs; eg Paramecium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lso used outside MOD community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IGR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Jenalia Farm Research Campus 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Chado key concepts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ightly Integrated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reign key relations between entitie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ontrast with federated mod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Module System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New modules can be ‘slotted in’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ome modules are mandatory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Generic and extensibl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uses ontologies and terminologies for typing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Highly normalised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ommunity &amp; open sourc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Chado modules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or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601"/>
              </a:spcBef>
              <a:buClr>
                <a:srgbClr val="99cc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00"/>
                </a:solidFill>
                <a:latin typeface="Gill Sans"/>
              </a:rPr>
              <a:t>general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(dbxrefs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601"/>
              </a:spcBef>
              <a:buClr>
                <a:srgbClr val="99cc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00"/>
                </a:solidFill>
                <a:latin typeface="Gill Sans"/>
              </a:rPr>
              <a:t>cv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(ontologies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ub (bibliographic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udi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main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99cc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00"/>
                </a:solidFill>
                <a:latin typeface="Gill Sans"/>
              </a:rPr>
              <a:t>sequence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(genomics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henotyp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expression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RAD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map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genetic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hylogeny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organism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even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Identifiers: </a:t>
            </a:r>
            <a:r>
              <a:rPr b="0" lang="en-US" sz="4400" spc="-1" strike="noStrike">
                <a:solidFill>
                  <a:srgbClr val="000000"/>
                </a:solidFill>
                <a:latin typeface="Courier New"/>
              </a:rPr>
              <a:t>dbxref</a:t>
            </a: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s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ll public records identified using bipartite schem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Not just external cross-reference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B Authority must be specified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Distinct table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Gill San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Can be associated with URIs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(db, accession, version[optional])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Records can also get </a:t>
            </a:r>
            <a:r>
              <a:rPr b="0" i="1" lang="en-US" sz="2800" spc="-1" strike="noStrike">
                <a:solidFill>
                  <a:srgbClr val="000000"/>
                </a:solidFill>
                <a:latin typeface="Gill Sans"/>
              </a:rPr>
              <a:t>secondary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dbxref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GO:0000001, FlyBase:FBgn0000001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162920" y="2438280"/>
            <a:ext cx="1650960" cy="345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Ontologies and terminologies are central to Chad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ntology - A formal representation of some portion of biological rea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705720" y="4648320"/>
            <a:ext cx="137160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ey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09480" y="3200400"/>
            <a:ext cx="3124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at </a:t>
            </a:r>
            <a:r>
              <a:rPr b="0" i="1" lang="en-US" sz="2800" spc="-1" strike="noStrike">
                <a:solidFill>
                  <a:srgbClr val="000000"/>
                </a:solidFill>
                <a:latin typeface="Gill Sans"/>
              </a:rPr>
              <a:t>kinds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of things exis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33520" y="4419720"/>
            <a:ext cx="32004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at are the </a:t>
            </a:r>
            <a:r>
              <a:rPr b="0" i="1" lang="en-US" sz="2800" spc="-1" strike="noStrike">
                <a:solidFill>
                  <a:srgbClr val="000000"/>
                </a:solidFill>
                <a:latin typeface="Gill Sans"/>
              </a:rPr>
              <a:t>relationships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between these thing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724280" y="6095880"/>
            <a:ext cx="228600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ommatidi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400800" y="3048120"/>
            <a:ext cx="20574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sense org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038480" y="3352680"/>
            <a:ext cx="1676520" cy="838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ey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dis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7391520" y="3657600"/>
            <a:ext cx="0" cy="990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 flipV="1">
            <a:off x="5028840" y="4267080"/>
            <a:ext cx="1676520" cy="609840"/>
          </a:xfrm>
          <a:prstGeom prst="line">
            <a:avLst/>
          </a:prstGeom>
          <a:ln w="572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5791320" y="5257440"/>
            <a:ext cx="1523880" cy="76212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376400" y="3870360"/>
            <a:ext cx="67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_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705720" y="5486400"/>
            <a:ext cx="106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_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030280" y="4495680"/>
            <a:ext cx="1265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velo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143000" y="4419720"/>
            <a:ext cx="2438280" cy="194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500"/>
                            </p:stCondLst>
                            <p:childTnLst>
                              <p:par>
                                <p:cTn id="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000"/>
                            </p:stCondLst>
                            <p:childTnLst>
                              <p:par>
                                <p:cTn id="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500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2000"/>
                            </p:stCondLst>
                            <p:childTnLst>
                              <p:par>
                                <p:cTn id="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2500"/>
                            </p:stCondLst>
                            <p:childTnLst>
                              <p:par>
                                <p:cTn id="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300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350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4000"/>
                            </p:stCondLst>
                            <p:childTnLst>
                              <p:par>
                                <p:cTn id="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4500"/>
                            </p:stCondLst>
                            <p:childTnLst>
                              <p:par>
                                <p:cTn id="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Ontologies: cv module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9246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ased on GO DB Schema and OBO format spec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"/>
          <p:cNvSpPr/>
          <p:nvPr/>
        </p:nvSpPr>
        <p:spPr>
          <a:xfrm>
            <a:off x="304920" y="2666880"/>
            <a:ext cx="396216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key concep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merican Typewrit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erican Typewriter"/>
              </a:rPr>
              <a:t>cvterm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(a term, or class in an ontolog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merican Typewrit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erican Typewriter"/>
              </a:rPr>
              <a:t>cvterm_relationsh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DA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Subject-predicate-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merican Typewrit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erican Typewriter"/>
              </a:rPr>
              <a:t>Cv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(an ontology or terminology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4432320" y="3581280"/>
            <a:ext cx="4711680" cy="22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33520" y="304920"/>
            <a:ext cx="7086600" cy="63370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687240" y="3124080"/>
            <a:ext cx="1400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ubset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nt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5334120" y="2209680"/>
          <a:ext cx="3581280" cy="1335240"/>
        </p:xfrm>
        <a:graphic>
          <a:graphicData uri="http://schemas.openxmlformats.org/drawingml/2006/table">
            <a:tbl>
              <a:tblPr/>
              <a:tblGrid>
                <a:gridCol w="1295280"/>
                <a:gridCol w="990720"/>
                <a:gridCol w="12952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ubje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bje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x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_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anscript reg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anscript reg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rt_o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anscrip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Genomics: Sequence module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ome key concepts (a subset):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eatur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A genomic entity (gene, intron, SNP, chromosome, ..)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eatureloc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A relative location in sequence coordinates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eature_relationship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A pairwise relation between two features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3" marL="1455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e.g. exon to transcript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eatureprop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Tag-value data for a feature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eature_cvterm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Ontology-based annotation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Feature table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eatures </a:t>
            </a:r>
            <a:r>
              <a:rPr b="0" i="1" lang="en-US" sz="3200" spc="-1" strike="noStrike">
                <a:solidFill>
                  <a:srgbClr val="000000"/>
                </a:solidFill>
                <a:latin typeface="Gill Sans"/>
              </a:rPr>
              <a:t>have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sequenc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quence are </a:t>
            </a:r>
            <a:r>
              <a:rPr b="0" i="1" lang="en-US" sz="2800" spc="-1" strike="noStrike">
                <a:solidFill>
                  <a:srgbClr val="000000"/>
                </a:solidFill>
                <a:latin typeface="Gill Sans"/>
              </a:rPr>
              <a:t>not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independent entiti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mbedded in feature tabl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ll features reside in same tabl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Genes, exons, chromosomes, SNPs, ..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yped using Sequence Ontology (SO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Optional extra: </a:t>
            </a:r>
            <a:r>
              <a:rPr b="0" i="1" lang="en-US" sz="2400" spc="-1" strike="noStrike">
                <a:solidFill>
                  <a:srgbClr val="000000"/>
                </a:solidFill>
                <a:latin typeface="Gill Sans"/>
              </a:rPr>
              <a:t>Automatically generated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SQL view layer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7467480" y="1752480"/>
            <a:ext cx="1422360" cy="22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2590920"/>
            <a:ext cx="4051440" cy="426708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Feature Graphs: the </a:t>
            </a:r>
            <a:r>
              <a:rPr b="0" lang="en-US" sz="4400" spc="-1" strike="noStrike">
                <a:solidFill>
                  <a:srgbClr val="000000"/>
                </a:solidFill>
                <a:latin typeface="American Typewriter"/>
              </a:rPr>
              <a:t>feature_relationship</a:t>
            </a: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 table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352320" y="2057400"/>
            <a:ext cx="5410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eature graphs (FGs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ubject-predicate-objec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redicates (types) are cvterm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hado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GMOD &amp; Model Organism Databas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Genomics data in Chado using SO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BD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NCBO &amp; OBD Requirement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RDF and the semantic web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PARQL endpoint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Example: alternately spliced gene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7432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7 features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1 gen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2 transcript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4 exon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267080" y="4952880"/>
            <a:ext cx="4381560" cy="1054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9" name=""/>
          <p:cNvGraphicFramePr/>
          <p:nvPr/>
        </p:nvGraphicFramePr>
        <p:xfrm>
          <a:off x="3505320" y="2057400"/>
          <a:ext cx="5029200" cy="2425680"/>
        </p:xfrm>
        <a:graphic>
          <a:graphicData uri="http://schemas.openxmlformats.org/drawingml/2006/table">
            <a:tbl>
              <a:tblPr/>
              <a:tblGrid>
                <a:gridCol w="1752480"/>
                <a:gridCol w="1295280"/>
                <a:gridCol w="198144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ubje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edic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bje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 (transcript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rt_o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 (gen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 (transcript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rt_o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 (gen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 (exon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rt_o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 (transcript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 (exon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rt_o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 (transcript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3 (exon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rt_o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 (transcript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3 (exon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rt_o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 (transcript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4 (exon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rt_o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 (transcript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0" name=""/>
          <p:cNvSpPr/>
          <p:nvPr/>
        </p:nvSpPr>
        <p:spPr>
          <a:xfrm>
            <a:off x="457200" y="4343400"/>
            <a:ext cx="27432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ot show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olypept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Feature graph configurations are constrained by SO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O determines ontological relations between featur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g: Exon part_of transcrip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tandard rules for is_a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E.g. 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 is_a Y, Y part_of Z =&gt; X part_of Z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e OBO Relation ontology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"/>
                <a:hlinkClick r:id="rId1"/>
              </a:rPr>
              <a:t>http://www.obofoundry.org/ro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Rules must be encoded </a:t>
            </a:r>
            <a:r>
              <a:rPr b="0" i="1" lang="en-US" sz="2800" spc="-1" strike="noStrike">
                <a:solidFill>
                  <a:srgbClr val="000000"/>
                </a:solidFill>
                <a:latin typeface="Gill Sans"/>
              </a:rPr>
              <a:t>outside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standard relational schema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2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Declarative programming: SQL Functions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owerful, but optiona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ostgreSQL only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Can be ported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Separation of interface from implementation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quence operation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Transcription, translation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eature Graph operation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Deduction of implicit features (eg introns)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Location Graph operation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Projection, mereological relations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Related: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"/>
          <p:cNvSpPr/>
          <p:nvPr/>
        </p:nvSpPr>
        <p:spPr>
          <a:xfrm>
            <a:off x="1804320" y="5667480"/>
            <a:ext cx="7803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ata S, Patel JM, Friedman JS, and Swaroop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eclarative querying for biological sequence databa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Proc of the 22nd International Conference on Data Engineering (ICDE)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April 3-7, Atlanta, GA, 2006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Chado: ongoing work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hado for phenotype (EQ) data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ith FlyBase, ZFIN, DictyBas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hado for evolutionary scienc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In collaboration with NESCEN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cumentation!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Helpdesk (NESCENT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More GMOD integratio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Unified Architecture for GMOD?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Latest Obo format featur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llow for post-composition of complex term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NCBO: OBO and OBD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OBO: Open Bio Ontologi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Gill Sans"/>
                <a:hlinkClick r:id="rId1"/>
              </a:rPr>
              <a:t>Http://obo.sourceforge.ne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Gill Sans"/>
                <a:hlinkClick r:id="rId2"/>
              </a:rPr>
              <a:t>http://www.obofoundry.org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NCBO BioPortal; access to: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OBO ontologie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OBD annotation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urrent DBP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ly &amp; fish mutant phenotype annotation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Linking to disease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HIV Clinical trial analysi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OBD: Storing biomedical annotations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Requirements different from Chado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main scop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ll of biology and biomedicin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Ontologies used for annotatio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Not just OBO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ata integratio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Index minimum amount of data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Link to external data where appropriat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rovide and use data service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Requirements partially met by </a:t>
            </a:r>
            <a:r>
              <a:rPr b="0" i="1" lang="en-US" sz="2800" spc="-1" strike="noStrike">
                <a:solidFill>
                  <a:srgbClr val="000000"/>
                </a:solidFill>
                <a:latin typeface="Gill Sans"/>
              </a:rPr>
              <a:t>semantic web technology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The Semantic Web Datamodel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ased on </a:t>
            </a:r>
            <a:r>
              <a:rPr b="0" i="1" lang="en-US" sz="2800" spc="-1" strike="noStrike">
                <a:solidFill>
                  <a:srgbClr val="000000"/>
                </a:solidFill>
                <a:latin typeface="Gill Sans"/>
              </a:rPr>
              <a:t>RDF tripl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ubject-predicate-objec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Each element is a </a:t>
            </a:r>
            <a:r>
              <a:rPr b="1" lang="en-US" sz="2000" spc="-1" strike="noStrike">
                <a:solidFill>
                  <a:srgbClr val="000000"/>
                </a:solidFill>
                <a:latin typeface="Gill Sans"/>
              </a:rPr>
              <a:t>URI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Various serialisations: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RDF/XM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N3, N-Triple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Multiple APIs, QLs and storage option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RDF Graphs constrained by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Gill Sans"/>
              </a:rPr>
              <a:t>ontologi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Expressed in RDF Schema, OW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410080" y="457200"/>
            <a:ext cx="37339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OBD ‘Schema’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formal ontology of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annotation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09480" y="0"/>
            <a:ext cx="4954680" cy="64008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5861880" y="4952880"/>
            <a:ext cx="2989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in OBO Found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uses OBO upper ontolog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Implementing OBD using SemWeb technology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OBD-Sesam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3rd party triplestor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Relational or in-memory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Lacks native OWL suppor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erformance issue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OBD-SQ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eveloped at Berkeley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Reuse Chado methodology, cod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‘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riplestore’ with extra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Reduces triple overhead with common patterns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Wrapping databases as SPARQL endpoints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 lot of data in existing relational databases like Chado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Goal: make available as distributed resourc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Gill Sans"/>
              </a:rPr>
              <a:t>in OBD compliant way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olution: d2rq declarative mappings and SPARQ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rogress: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GO Database SPARQL endpoint: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1017000" indent="-203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"/>
                <a:hlinkClick r:id="rId1"/>
              </a:rPr>
              <a:t>http://yuri.lbl.gov:9000/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hado and OBD mappings coming soon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pplication: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Integration of annotations through </a:t>
            </a:r>
            <a:r>
              <a:rPr b="0" i="1" lang="en-US" sz="2400" spc="-1" strike="noStrike">
                <a:solidFill>
                  <a:srgbClr val="000000"/>
                </a:solidFill>
                <a:latin typeface="Gill Sans"/>
              </a:rPr>
              <a:t>genome dashboard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Chado: what is it?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 relational database schema for biological data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art of the Generic Model Organism Database (GMOD) projec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http://www.gmod.org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Interoperable tools for Model Organism Database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hado was originally built for MOD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371600" y="762120"/>
            <a:ext cx="5915160" cy="350676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609480" y="5410080"/>
            <a:ext cx="838440" cy="76212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133720" y="5410080"/>
            <a:ext cx="838080" cy="76212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809880" y="5638680"/>
            <a:ext cx="838440" cy="76212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5638680"/>
            <a:ext cx="838080" cy="76212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57200" y="6156360"/>
            <a:ext cx="1355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not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828080" y="5851440"/>
            <a:ext cx="1666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ease/phe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not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655800" y="6461280"/>
            <a:ext cx="173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ome 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68000" y="6248520"/>
            <a:ext cx="77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520" y="4952880"/>
            <a:ext cx="838080" cy="38124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2r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095880" y="5257800"/>
            <a:ext cx="838440" cy="38088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2r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5181480"/>
            <a:ext cx="838080" cy="38124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133720" y="5105520"/>
            <a:ext cx="1066680" cy="38088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s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92640" y="38160"/>
            <a:ext cx="762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age scenario: AJAX Gbrowse (http://genome.biowiki.or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762120" y="1600200"/>
            <a:ext cx="3962160" cy="3200400"/>
          </a:xfrm>
          <a:prstGeom prst="line">
            <a:avLst/>
          </a:prstGeom>
          <a:ln w="25560">
            <a:solidFill>
              <a:srgbClr val="0000ff">
                <a:alpha val="62000"/>
              </a:srgbClr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648320" y="1219320"/>
            <a:ext cx="1447560" cy="685800"/>
          </a:xfrm>
          <a:prstGeom prst="wedgeRectCallout">
            <a:avLst>
              <a:gd name="adj1" fmla="val -46050"/>
              <a:gd name="adj2" fmla="val 56712"/>
            </a:avLst>
          </a:prstGeom>
          <a:solidFill>
            <a:srgbClr val="bbe0e3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Palatino"/>
                <a:ea typeface="ＭＳ Ｐゴシック"/>
              </a:rPr>
              <a:t>Anno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Palatino"/>
                <a:ea typeface="ＭＳ Ｐゴシック"/>
              </a:rPr>
              <a:t>inf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2590920" y="1752480"/>
            <a:ext cx="2286000" cy="3276720"/>
          </a:xfrm>
          <a:prstGeom prst="line">
            <a:avLst/>
          </a:prstGeom>
          <a:ln w="25560">
            <a:solidFill>
              <a:srgbClr val="0000ff">
                <a:alpha val="62000"/>
              </a:srgbClr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4343400" y="2666520"/>
            <a:ext cx="304920" cy="2514600"/>
          </a:xfrm>
          <a:prstGeom prst="line">
            <a:avLst/>
          </a:prstGeom>
          <a:ln w="25560">
            <a:solidFill>
              <a:srgbClr val="0000ff">
                <a:alpha val="62000"/>
              </a:srgbClr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 flipV="1">
            <a:off x="5486040" y="1828440"/>
            <a:ext cx="1066680" cy="3429000"/>
          </a:xfrm>
          <a:prstGeom prst="line">
            <a:avLst/>
          </a:prstGeom>
          <a:ln w="25560">
            <a:solidFill>
              <a:srgbClr val="0000ff">
                <a:alpha val="62000"/>
              </a:srgbClr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401160" y="4495680"/>
            <a:ext cx="80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sparq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420080" y="4572000"/>
            <a:ext cx="88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DAS/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819880" y="4495680"/>
            <a:ext cx="80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sparq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1240" y="4191120"/>
            <a:ext cx="80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sparq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Conclusions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lexible hypernormalized schema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erformance penaltie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oo much freedom expression?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Ontologies + reasoners provide some constraints; eg SO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Open world assumption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ederation vs tight integratio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ight integration is required for MOD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s more data types become available dynamic integration will be key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RDF and SPARQL is one solution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72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LB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Shengqiang Shu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Mark Gibson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Nicole Washington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Seth Carbon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John Day Richter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Chris Smith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Karen Eilbeck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Sima Misra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Suzanna Lewis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048120" y="1981080"/>
            <a:ext cx="31240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lyBas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Dave Emmert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Pinglei Zhou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Peili Zhang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Aubrey de Grey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Paul Leyland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William Gelbart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HHMI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Gerry Rubin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9" name=""/>
          <p:cNvSpPr/>
          <p:nvPr/>
        </p:nvSpPr>
        <p:spPr>
          <a:xfrm>
            <a:off x="53341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GMOD, Nesc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cott C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ohel Merch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Eric Ju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ierra Mox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ndrew Uzilo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Brian Osbor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Ian Hol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Lincoln Ste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3816360" y="2909880"/>
            <a:ext cx="62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Feature localisation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038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Interbas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mplifies cod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ll localisations relativ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Gill Sans"/>
              </a:rPr>
              <a:t>Location Graph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LG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Recursive/nested locations allowed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4876920" y="1752480"/>
            <a:ext cx="3835440" cy="166392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4495680" y="3733920"/>
            <a:ext cx="416556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Recursive location graphs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Locations can be nested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512640" indent="-196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Finished genomes typically flat;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epth(LG)=1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1" marL="512640" indent="-196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Unfinished genomes, heterochromatin may require 2 (rarely more) levels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2" marL="788400" indent="-157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features located relative to contigs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2" marL="788400" indent="-157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Contigs related relative to chrmosomes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1" marL="512640" indent="-196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May be a requirement to change coordinates at each level </a:t>
            </a:r>
            <a:r>
              <a:rPr b="0" i="1" lang="en-US" sz="2000" spc="-1" strike="noStrike">
                <a:solidFill>
                  <a:srgbClr val="000000"/>
                </a:solidFill>
                <a:latin typeface="Gill Sans"/>
              </a:rPr>
              <a:t>independently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2" marL="788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Nested LGs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457200" y="2743200"/>
          <a:ext cx="7238880" cy="1306440"/>
        </p:xfrm>
        <a:graphic>
          <a:graphicData uri="http://schemas.openxmlformats.org/drawingml/2006/table">
            <a:tbl>
              <a:tblPr/>
              <a:tblGrid>
                <a:gridCol w="1824120"/>
                <a:gridCol w="1824120"/>
                <a:gridCol w="2371680"/>
                <a:gridCol w="1218960"/>
              </a:tblGrid>
              <a:tr h="31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eatu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o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rcfeatu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rou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xon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0..200[+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ontig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ontig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2000..13000[+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hrom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xon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2100..13100[+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hrom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9" name=""/>
          <p:cNvSpPr/>
          <p:nvPr/>
        </p:nvSpPr>
        <p:spPr>
          <a:xfrm>
            <a:off x="1463400" y="5008680"/>
            <a:ext cx="6671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dundant localisations can be used to ‘flatten’ L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oup&gt;0 indicates denormalised/flattened L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must be recalculated if group=0 coordinates 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Relational featurelocs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 relation between two or more location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Matches, sequence variants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Indicated using rank column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Use case: SNP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Simple way to query for variants introducing premature termination of translation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Combine relational featurelocs and redundant featurelocs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3+ featureloc pairs: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Gill San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Sequence of SNP on reference and variant genome (+ location on reference)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Gill San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Same on transcripts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Gill San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Same on polypeptides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lvl="3" marL="1600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OWL entailment genomics use case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O defines ‘TE gene’ as: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 SO:gene which is part_of a SO:T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In OWL: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1062720" indent="-212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Class(TE_Gene complete Gene part_of(TE))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Result: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Queries for ‘SO:TE_gene’ return features not explicitly annotated as such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ompare: Chado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Equivalent rules to be added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1062720" indent="-212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PostgreSQL functions?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2" marL="1062720" indent="-212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Oboedit reasoner adapter?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A brief introduction to MODs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ome Model Organism Databases: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lyBase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Gill Sans"/>
              </a:rPr>
              <a:t>(D melanogaster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ormBase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Gill Sans"/>
              </a:rPr>
              <a:t>(C elegans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MGD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Gill Sans"/>
              </a:rPr>
              <a:t>(M musculus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at does a MOD organisation do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urate and integrate data on a specific species or taxon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rovide a web portal for the community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at are the database requirements for a MOD?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352680" y="2057400"/>
            <a:ext cx="5372280" cy="43178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Must store representations of </a:t>
            </a:r>
            <a:r>
              <a:rPr b="0" i="1" lang="en-US" sz="4400" spc="-1" strike="noStrike">
                <a:solidFill>
                  <a:srgbClr val="000000"/>
                </a:solidFill>
                <a:latin typeface="Gill Sans"/>
              </a:rPr>
              <a:t>genes</a:t>
            </a: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 and </a:t>
            </a:r>
            <a:r>
              <a:rPr b="0" i="1" lang="en-US" sz="4400" spc="-1" strike="noStrike">
                <a:solidFill>
                  <a:srgbClr val="000000"/>
                </a:solidFill>
                <a:latin typeface="Gill Sans"/>
              </a:rPr>
              <a:t>genomic entities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-360" y="1828440"/>
            <a:ext cx="2895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Sequence data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Exon-intron structure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Noncoding genes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Curated and computed features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Entities with unusual transcriptional properties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And more…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Must store other data types pertinent to that organism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Including, but not limited to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xpressio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nteractio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Genetic and phenotypic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riorities amongst MODs diffe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ifferent MOs have different biological and experimental characteristic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.g. </a:t>
            </a:r>
            <a:r>
              <a:rPr b="0" i="1" lang="en-US" sz="2800" spc="-1" strike="noStrike">
                <a:solidFill>
                  <a:srgbClr val="000000"/>
                </a:solidFill>
                <a:latin typeface="Gill Sans"/>
              </a:rPr>
              <a:t>D melanogaster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and genetics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9144000" cy="319752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Must house rich annotation data using </a:t>
            </a:r>
            <a:r>
              <a:rPr b="0" i="1" lang="en-US" sz="4400" spc="-1" strike="noStrike">
                <a:solidFill>
                  <a:srgbClr val="000000"/>
                </a:solidFill>
                <a:latin typeface="Gill Sans"/>
              </a:rPr>
              <a:t>ontologies</a:t>
            </a: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GO (Gene Ontology); Anatomical Ontologies; Phenotype Ontologi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572000" y="1676520"/>
            <a:ext cx="3994200" cy="518148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Must track </a:t>
            </a:r>
            <a:r>
              <a:rPr b="0" i="1" lang="en-US" sz="4400" spc="-1" strike="noStrike">
                <a:solidFill>
                  <a:srgbClr val="000000"/>
                </a:solidFill>
                <a:latin typeface="Gill Sans"/>
              </a:rPr>
              <a:t>provenance</a:t>
            </a: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 and </a:t>
            </a:r>
            <a:r>
              <a:rPr b="0" i="1" lang="en-US" sz="4400" spc="-1" strike="noStrike">
                <a:solidFill>
                  <a:srgbClr val="000000"/>
                </a:solidFill>
                <a:latin typeface="Gill Sans"/>
              </a:rPr>
              <a:t>evidence</a:t>
            </a: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 for data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339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MOD data is often curated from the </a:t>
            </a:r>
            <a:r>
              <a:rPr b="0" i="1" lang="en-US" sz="2800" spc="-1" strike="noStrike">
                <a:solidFill>
                  <a:srgbClr val="000000"/>
                </a:solidFill>
                <a:latin typeface="Gill Sans"/>
              </a:rPr>
              <a:t>literatur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Other sourc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Gill Sans"/>
              </a:rPr>
              <a:t>Compute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Gill Sans"/>
              </a:rPr>
              <a:t>High throughput data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Gill Sans"/>
              </a:rPr>
              <a:t>Imaging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685800" y="4952880"/>
            <a:ext cx="3200400" cy="1676160"/>
            <a:chOff x="685800" y="4952880"/>
            <a:chExt cx="3200400" cy="1676160"/>
          </a:xfrm>
        </p:grpSpPr>
        <p:pic>
          <p:nvPicPr>
            <p:cNvPr id="61" name="" descr=""/>
            <p:cNvPicPr/>
            <p:nvPr/>
          </p:nvPicPr>
          <p:blipFill>
            <a:blip r:embed="rId2"/>
            <a:stretch/>
          </p:blipFill>
          <p:spPr>
            <a:xfrm>
              <a:off x="756360" y="4952880"/>
              <a:ext cx="2939400" cy="158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685800" y="5476680"/>
              <a:ext cx="3200400" cy="108288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3" name="" descr=""/>
            <p:cNvPicPr/>
            <p:nvPr/>
          </p:nvPicPr>
          <p:blipFill>
            <a:blip r:embed="rId3"/>
            <a:stretch/>
          </p:blipFill>
          <p:spPr>
            <a:xfrm>
              <a:off x="756360" y="5507280"/>
              <a:ext cx="2916000" cy="1121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Must be an </a:t>
            </a:r>
            <a:r>
              <a:rPr b="0" i="1" lang="en-US" sz="4400" spc="-1" strike="noStrike">
                <a:solidFill>
                  <a:srgbClr val="000000"/>
                </a:solidFill>
                <a:latin typeface="Gill Sans"/>
              </a:rPr>
              <a:t>integrated</a:t>
            </a: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 source of data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Must drive Web Porta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Gill Sans"/>
                <a:hlinkClick r:id="rId1"/>
              </a:rPr>
              <a:t>http://www.flybase.org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Gill Sans"/>
                <a:hlinkClick r:id="rId2"/>
              </a:rPr>
              <a:t>http://www.wormbase.org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Gill Sans"/>
                <a:hlinkClick r:id="rId3"/>
              </a:rPr>
              <a:t>http://www.yeastgenome.org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Links out to external resourc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GO, Ensembl, UniProt, …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ubstantial amount of records managed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Gill Sans"/>
              </a:rPr>
              <a:t>locally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in single integrated databas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hris Mungall</cp:lastModifiedBy>
  <dcterms:modified xsi:type="dcterms:W3CDTF">2006-11-16T16:33:02Z</dcterms:modified>
  <cp:revision>146</cp:revision>
  <dc:subject/>
  <dc:title>Chado: evolution of a biological database LONG VERSION</dc:title>
</cp:coreProperties>
</file>